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802-0A3E-4D49-8B81-DFCA09AC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A00-BA6F-4E4A-8CF7-66983B28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CD3-1985-4C13-8081-7EBE0EDB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863-48DB-4623-B60D-DFD33B36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397-FF80-40D3-B5F9-14160F4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09D1-DCB8-4F78-9F60-FCC4C882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E059-4083-43D7-8B13-714BCBA8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BBE3-F522-4DB8-AA20-22E1322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B268-617B-4C7B-8E03-327192E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F34B-AEE8-4384-AEA4-4EAE5A1F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1AE3-CB66-4CE8-8785-43778172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B102-8C93-438C-9C5B-97E83621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45DB-FEBE-412B-8EDE-6341A86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082A-BE40-46DE-BF39-9AF8D878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A2F4-6D05-4426-8C55-C2F033A4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11E1-7F23-4756-B1A1-D3068A4B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A19-8CE9-42F6-9106-22D33A39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CDD-206B-4EC9-9922-402C6DA4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957-A824-44E4-87A3-D13C0D33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8C02-1DE8-42A0-BC29-6CB300F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213-24EE-4F37-A638-3B7FB217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6EE-2367-4D1F-8F6B-E37B8D2E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021-9DA1-4DBA-AD24-8358193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78F-D12A-46BA-86A2-3532C9B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A04-99B2-4BA6-87F7-CDF2C64481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412E-B54D-4024-A79F-48DD4B77715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ictory in Europ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80773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-E Da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y 7, 194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onditional surren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DR had died a few weeks previous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rry S. Truma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91120" y="3666960"/>
            <a:ext cx="4800600" cy="3002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2:48:58Z</dcterms:created>
  <dc:creator>Owner</dc:creator>
  <dc:description/>
  <dc:language>en-US</dc:language>
  <cp:lastModifiedBy>Owner</cp:lastModifiedBy>
  <dcterms:modified xsi:type="dcterms:W3CDTF">2010-04-07T05:08:02Z</dcterms:modified>
  <cp:revision>2</cp:revision>
  <dc:subject/>
  <dc:title>Victory in Europe</dc:title>
</cp:coreProperties>
</file>